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3F0-F2DE-4A0B-A674-B37492DC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482-3275-4931-9504-9CF2416E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DC6-D642-406C-9AAC-69FCBEB5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15E-37FD-4314-BE12-63C546C6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4C3-E90D-406D-B4DD-A23E11CD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221-8F88-4BA1-9B11-C0197C94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895-2D22-451E-8A40-83264491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4DD-B699-4D91-B58B-DDD5EA94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45C-6914-45CE-894A-B76D382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FCF-368C-486C-9CBC-AB4C072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44D-6D11-4513-A474-17799C8C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9DA-74C1-48B3-960D-14E747ED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9A1-CB43-48E5-ADBD-59ABB3376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for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st of food for one fami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week in each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503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5638320"/>
            <a:ext cx="74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: The Aboubakar family of Breidjing Camp Food expenditure for one week: 685 CFA Francs or $1.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543800" cy="498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5638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: The Melander family of Bargteheide Food expenditure for one week: 375.39 Euros or $500.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10640" cy="46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409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d States: The Revis family of North Carolina Food expenditure for one week $341.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483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5486040"/>
            <a:ext cx="69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 : The Manzo family of Sicily Food expenditure for one week: 214.36 Euros or $260.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467480" cy="493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56383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 : The Casales family of Cuernavac a Food expenditure for one week: 1,862.78 Mexican Pesos or $189.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03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790600"/>
            <a:ext cx="81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nd : The Sobczynscy family of Konstancin-Jeziorna Food expenditure for one week: 582.48 Zlotys or $151.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18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714640"/>
            <a:ext cx="75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 : The Ahmed family of Cairo Food expenditure for one week: 387.85 Egyptian Pounds or $68.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508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8920" y="5714280"/>
            <a:ext cx="790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ador : The Ayme family of Tingo Food expenditure for one week: $31.5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4884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080" y="5562000"/>
            <a:ext cx="78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utan: The Namgay family of Shingkhey Village Food expenditure for one week: 224.93 ngultrum or $5.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3:04:22Z</dcterms:created>
  <dc:creator>Sheila Blake</dc:creator>
  <dc:description/>
  <dc:language>en-US</dc:language>
  <cp:lastModifiedBy>kritter</cp:lastModifiedBy>
  <dcterms:modified xsi:type="dcterms:W3CDTF">2008-02-06T13:50:24Z</dcterms:modified>
  <cp:revision>2</cp:revision>
  <dc:subject/>
  <dc:title>Slide 1</dc:title>
</cp:coreProperties>
</file>